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D49B-5723-4575-BC3D-1818763F715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BA62-FF6C-4EFA-ABE7-D8C486F1D5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9ED8-F0EE-45AD-BC16-AC62D024F6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ACE8-76D1-4522-BA9E-9FB921DE9FE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271760"/>
            <a:ext cx="54864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4B43-B7A9-4835-8280-E1219BF153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64A0-A5FA-4AAB-875B-7B97F04660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D0EC-A02C-4163-9833-C77B25A0D9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7045-8686-4F35-A63B-D8208CBB695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E1F3-DAC6-4003-9FD2-806C436CFE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EEDB-2751-4DB3-8E74-42AC5C798E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FA2C-CE2D-457F-A2FE-4E828AF971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9ABA-33F0-4BCD-99CE-03AA9E6599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370-EF84-49DD-A77F-7863D001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485-016A-4CB8-992D-5C50E16E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49C-C34B-4258-B255-69A7E158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2E0-AE8B-4705-8707-00CAD7A2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5466-C146-4ABF-9BFD-18BB62D9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AB1D-10E3-4DD0-A0B7-E474088B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A286-6839-4F66-92C0-CAE83939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0D81-6CDC-4893-B0B8-CEC150CD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290A-7711-4A96-BDF9-21AC4BBA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6F0D-030C-450E-AFC3-E3791F12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B0EF-7350-4A0D-BC04-DD9E8DF8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CAE-C1D3-43A1-96BF-554F9313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4571-C876-439A-80F2-168E34B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C750-6F96-4304-B83F-CA3F822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B7A2-9902-41B0-BE93-64C30170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31B2-D9FB-4526-A023-DA643DC5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5716-43D5-481B-901D-C9DF56FA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DA65-BB24-4B27-AC36-31A6D367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EB00-089C-4AFC-8533-300DA785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BCDA3-94A2-4C85-9CA0-196684FC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F7CC-14B2-49EE-9F53-76F7F79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8053-4FF3-4B74-8AE6-AFE8404F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12C-349E-402B-AB1C-A48AEDE0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7567-E361-4E7F-B03F-03510A9A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46EBB-40C2-4E94-9777-72299EA1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743D-C072-4278-A33E-36E42D86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67AB-34D4-47E5-88A5-8552A661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E362C-4786-4A8C-879F-0916D5A0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1F6B-D671-48C5-BFCF-AFF50A41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504B-D207-4D5E-8BFF-599AB4DC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7A3-5321-4A7C-93E3-A27AE094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24D-33BF-4270-A9E7-A250815C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3F4-C9CF-43B5-9A4D-FD38EE58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761-8739-4919-A35F-5B159B1E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F5F-0F2F-4E3E-B310-9585236C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4B4-F06E-4899-B5C5-84A840E1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EBF9-0AF1-4098-823F-799CD478E744}" type="datetime"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OJiKW KA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053C-5647-426F-9418-44D6ABFA95C4}" type="slidenum"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CF77-EB02-404C-A56D-4922135ABD0F}" type="datetime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456D-E852-4F3D-B9B5-97C32795746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upa 13"/>
          <p:cNvGrpSpPr/>
          <p:nvPr/>
        </p:nvGrpSpPr>
        <p:grpSpPr>
          <a:xfrm>
            <a:off x="357120" y="1213920"/>
            <a:ext cx="8358120" cy="4930920"/>
            <a:chOff x="357120" y="1213920"/>
            <a:chExt cx="8358120" cy="4930920"/>
          </a:xfrm>
        </p:grpSpPr>
        <p:sp>
          <p:nvSpPr>
            <p:cNvPr id="83" name="Łącznik prosty 7"/>
            <p:cNvSpPr/>
            <p:nvPr/>
          </p:nvSpPr>
          <p:spPr>
            <a:xfrm>
              <a:off x="357120" y="1571400"/>
              <a:ext cx="8358120" cy="144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Łącznik prosty 8"/>
            <p:cNvSpPr/>
            <p:nvPr/>
          </p:nvSpPr>
          <p:spPr>
            <a:xfrm flipV="1">
              <a:off x="1284120" y="1213920"/>
              <a:ext cx="2880" cy="493092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BAB3-9F1F-4196-893A-7B1147C5C4BD}" type="datetime"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OJiKW KA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424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Lucida Sans Unicode"/>
              </a:rPr>
              <a:t>Nuovo Soggettario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ole tekstowe 2"/>
          <p:cNvSpPr/>
          <p:nvPr/>
        </p:nvSpPr>
        <p:spPr>
          <a:xfrm>
            <a:off x="1744200" y="335772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łoski system katalogowania przedmiotow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ole tekstowe 3"/>
          <p:cNvSpPr/>
          <p:nvPr/>
        </p:nvSpPr>
        <p:spPr>
          <a:xfrm>
            <a:off x="1882440" y="4143240"/>
            <a:ext cx="47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na Gór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środek Języka i Kartoteki Wzorcowej K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ntrum Nu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a.gorska@uw.edu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ymbol zastępczy numeru slajd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Object 7" descr=""/>
          <p:cNvPicPr/>
          <p:nvPr/>
        </p:nvPicPr>
        <p:blipFill>
          <a:blip r:embed="rId1"/>
          <a:stretch/>
        </p:blipFill>
        <p:spPr>
          <a:xfrm>
            <a:off x="357120" y="0"/>
            <a:ext cx="864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Lucida Sans Unicode"/>
              </a:rPr>
              <a:t>Wybrana bibliograf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EDB0-F663-4608-9327-12729CE56610}" type="slidenum"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ole tekstowe 4"/>
          <p:cNvSpPr/>
          <p:nvPr/>
        </p:nvSpPr>
        <p:spPr>
          <a:xfrm>
            <a:off x="357120" y="2071800"/>
            <a:ext cx="878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Lucida Sans Unicode"/>
              </a:rPr>
              <a:t>Nuovo Soggettario. Guida al sistema italiano di indicizzazione per soggetto. Prototipo del Thesaurus.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ilano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Lucida Sans Unicode"/>
              </a:rPr>
              <a:t>Soggettario per i cataloghi delle biblioteche itali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Lucarelli, Anna. </a:t>
            </a:r>
            <a:r>
              <a:rPr b="0" i="1" lang="pl-PL" sz="1800" spc="-1" strike="noStrike">
                <a:solidFill>
                  <a:srgbClr val="000000"/>
                </a:solidFill>
                <a:latin typeface="Lucida Sans Unicode"/>
              </a:rPr>
              <a:t>Authority control semantico e Nuovo Soggettario.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Firenze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Lucarelli, Anna. </a:t>
            </a:r>
            <a:r>
              <a:rPr b="0" i="1" lang="pl-PL" sz="1800" spc="-1" strike="noStrike">
                <a:solidFill>
                  <a:srgbClr val="000000"/>
                </a:solidFill>
                <a:latin typeface="Lucida Sans Unicode"/>
              </a:rPr>
              <a:t>Il Nuovo Soggettario. </a:t>
            </a:r>
            <a:r>
              <a:rPr b="0" i="1" lang="it-IT" sz="1800" spc="-1" strike="noStrike">
                <a:solidFill>
                  <a:srgbClr val="000000"/>
                </a:solidFill>
                <a:latin typeface="Lucida Sans Unicode"/>
              </a:rPr>
              <a:t>Linee del progetto, realizz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Lucida Sans Unicode"/>
              </a:rPr>
              <a:t>del Prototipo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 [prezentacja 2007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Lucarelli, Anna. Semantic Authority Control and the New Soggett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Cataloging ang Classification Quarterly. V. 39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Bertocci, Emilio. </a:t>
            </a:r>
            <a:r>
              <a:rPr b="0" i="1" lang="pl-PL" sz="1800" spc="-1" strike="noStrike">
                <a:solidFill>
                  <a:srgbClr val="000000"/>
                </a:solidFill>
                <a:latin typeface="Lucida Sans Unicode"/>
              </a:rPr>
              <a:t>I linguaggi d’indicizazzione.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Symbol zastępczy numeru slajd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52280" y="285840"/>
            <a:ext cx="8991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Lucida Sans Unicode"/>
              </a:rPr>
              <a:t>Architektura systemu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Symbol zastępczy numeru slajd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12"/>
          <p:cNvSpPr/>
          <p:nvPr/>
        </p:nvSpPr>
        <p:spPr>
          <a:xfrm>
            <a:off x="5261400" y="435780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Materiały pomocnic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14"/>
          <p:cNvSpPr/>
          <p:nvPr/>
        </p:nvSpPr>
        <p:spPr>
          <a:xfrm>
            <a:off x="1501920" y="52149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Język stosow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załka w prawo 15"/>
          <p:cNvSpPr/>
          <p:nvPr/>
        </p:nvSpPr>
        <p:spPr>
          <a:xfrm>
            <a:off x="2571840" y="2500200"/>
            <a:ext cx="214200" cy="21456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załka w prawo 16"/>
          <p:cNvSpPr/>
          <p:nvPr/>
        </p:nvSpPr>
        <p:spPr>
          <a:xfrm rot="3505200">
            <a:off x="981720" y="3693240"/>
            <a:ext cx="1785960" cy="285840"/>
          </a:xfrm>
          <a:prstGeom prst="rightArrow">
            <a:avLst>
              <a:gd name="adj1" fmla="val 50000"/>
              <a:gd name="adj2" fmla="val 499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załka w prawo 17"/>
          <p:cNvSpPr/>
          <p:nvPr/>
        </p:nvSpPr>
        <p:spPr>
          <a:xfrm rot="8281800">
            <a:off x="3437640" y="3774960"/>
            <a:ext cx="1785960" cy="285840"/>
          </a:xfrm>
          <a:prstGeom prst="rightArrow">
            <a:avLst>
              <a:gd name="adj1" fmla="val 50000"/>
              <a:gd name="adj2" fmla="val 499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załka w prawo 18"/>
          <p:cNvSpPr/>
          <p:nvPr/>
        </p:nvSpPr>
        <p:spPr>
          <a:xfrm rot="8118600">
            <a:off x="4595040" y="4443120"/>
            <a:ext cx="569880" cy="299880"/>
          </a:xfrm>
          <a:prstGeom prst="rightArrow">
            <a:avLst>
              <a:gd name="adj1" fmla="val 50000"/>
              <a:gd name="adj2" fmla="val 5002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upa 27"/>
          <p:cNvGrpSpPr/>
          <p:nvPr/>
        </p:nvGrpSpPr>
        <p:grpSpPr>
          <a:xfrm>
            <a:off x="142920" y="2286000"/>
            <a:ext cx="9001080" cy="3000240"/>
            <a:chOff x="142920" y="2286000"/>
            <a:chExt cx="9001080" cy="3000240"/>
          </a:xfrm>
        </p:grpSpPr>
        <p:grpSp>
          <p:nvGrpSpPr>
            <p:cNvPr id="149" name="Grupa 26"/>
            <p:cNvGrpSpPr/>
            <p:nvPr/>
          </p:nvGrpSpPr>
          <p:grpSpPr>
            <a:xfrm>
              <a:off x="214200" y="2286000"/>
              <a:ext cx="8929800" cy="2071800"/>
              <a:chOff x="214200" y="2286000"/>
              <a:chExt cx="8929800" cy="2071800"/>
            </a:xfrm>
          </p:grpSpPr>
          <p:sp>
            <p:nvSpPr>
              <p:cNvPr id="150" name="Prostokąt zaokrąglony 23"/>
              <p:cNvSpPr/>
              <p:nvPr/>
            </p:nvSpPr>
            <p:spPr>
              <a:xfrm>
                <a:off x="5072040" y="3714840"/>
                <a:ext cx="407196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93cddd">
                  <a:alpha val="60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Prostokąt zaokrąglony 24"/>
              <p:cNvSpPr/>
              <p:nvPr/>
            </p:nvSpPr>
            <p:spPr>
              <a:xfrm>
                <a:off x="5072040" y="2928960"/>
                <a:ext cx="407196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93cddd">
                  <a:alpha val="60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Prostokąt zaokrąglony 25"/>
              <p:cNvSpPr/>
              <p:nvPr/>
            </p:nvSpPr>
            <p:spPr>
              <a:xfrm>
                <a:off x="2786040" y="2286000"/>
                <a:ext cx="200016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Prostokąt zaokrąglony 26"/>
              <p:cNvSpPr/>
              <p:nvPr/>
            </p:nvSpPr>
            <p:spPr>
              <a:xfrm>
                <a:off x="214200" y="2286000"/>
                <a:ext cx="228600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Prostokąt zaokrąglony 6"/>
            <p:cNvSpPr/>
            <p:nvPr/>
          </p:nvSpPr>
          <p:spPr>
            <a:xfrm>
              <a:off x="571320" y="4643280"/>
              <a:ext cx="4071960" cy="642960"/>
            </a:xfrm>
            <a:prstGeom prst="roundRect">
              <a:avLst>
                <a:gd name="adj" fmla="val 16667"/>
              </a:avLst>
            </a:pr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ole tekstowe 7"/>
            <p:cNvSpPr/>
            <p:nvPr/>
          </p:nvSpPr>
          <p:spPr>
            <a:xfrm>
              <a:off x="2878920" y="2357280"/>
              <a:ext cx="194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Lucida Sans Unicode"/>
                  <a:ea typeface="Arial"/>
                </a:rPr>
                <a:t>TEZAUR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ole tekstowe 8"/>
            <p:cNvSpPr/>
            <p:nvPr/>
          </p:nvSpPr>
          <p:spPr>
            <a:xfrm>
              <a:off x="142920" y="2357280"/>
              <a:ext cx="241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Lucida Sans Unicode"/>
                  <a:ea typeface="Arial"/>
                </a:rPr>
                <a:t>GRAMATYK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ole tekstowe 9"/>
            <p:cNvSpPr/>
            <p:nvPr/>
          </p:nvSpPr>
          <p:spPr>
            <a:xfrm>
              <a:off x="5397840" y="300024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Lucida Sans Unicode"/>
                  <a:ea typeface="Arial"/>
                </a:rPr>
                <a:t>NOTY STOSOW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ole tekstowe 10"/>
            <p:cNvSpPr/>
            <p:nvPr/>
          </p:nvSpPr>
          <p:spPr>
            <a:xfrm>
              <a:off x="5816880" y="3714840"/>
              <a:ext cx="23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Lucida Sans Unicode"/>
                  <a:ea typeface="Arial"/>
                </a:rPr>
                <a:t>PODRĘCZNI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ole tekstowe 11"/>
            <p:cNvSpPr/>
            <p:nvPr/>
          </p:nvSpPr>
          <p:spPr>
            <a:xfrm>
              <a:off x="1377000" y="4643280"/>
              <a:ext cx="22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Lucida Sans Unicode"/>
                  <a:ea typeface="Arial"/>
                </a:rPr>
                <a:t>INDEKS HP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ole tekstowe 13"/>
            <p:cNvSpPr/>
            <p:nvPr/>
          </p:nvSpPr>
          <p:spPr>
            <a:xfrm>
              <a:off x="700920" y="3000240"/>
              <a:ext cx="39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Lucida Sans Unicode"/>
                </a:rPr>
                <a:t>Język informacyjno-wyszukiwawc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upa 28"/>
            <p:cNvGrpSpPr/>
            <p:nvPr/>
          </p:nvGrpSpPr>
          <p:grpSpPr>
            <a:xfrm>
              <a:off x="4786200" y="2643120"/>
              <a:ext cx="444600" cy="1418040"/>
              <a:chOff x="4786200" y="2643120"/>
              <a:chExt cx="444600" cy="1418040"/>
            </a:xfrm>
          </p:grpSpPr>
          <p:cxnSp>
            <p:nvCxnSpPr>
              <p:cNvPr id="162" name="Kształt 24"/>
              <p:cNvCxnSpPr/>
              <p:nvPr/>
            </p:nvCxnSpPr>
            <p:spPr>
              <a:xfrm>
                <a:off x="4786200" y="2643120"/>
                <a:ext cx="444960" cy="1418400"/>
              </a:xfrm>
              <a:prstGeom prst="bentConnector3">
                <a:avLst>
                  <a:gd name="adj1" fmla="val 49959"/>
                </a:avLst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63" name="Łącznik prosty ze strzałką 22"/>
              <p:cNvCxnSpPr>
                <a:endCxn id="151" idx="1"/>
              </p:cNvCxnSpPr>
              <p:nvPr/>
            </p:nvCxnSpPr>
            <p:spPr>
              <a:xfrm>
                <a:off x="5000040" y="3214080"/>
                <a:ext cx="214920" cy="37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cxnSp>
        <p:nvCxnSpPr>
          <p:cNvPr id="164" name="Łącznik prosty ze strzałką 28"/>
          <p:cNvCxnSpPr/>
          <p:nvPr/>
        </p:nvCxnSpPr>
        <p:spPr>
          <a:xfrm flipH="1">
            <a:off x="2857320" y="2785680"/>
            <a:ext cx="714960" cy="1857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pole tekstowe 27"/>
          <p:cNvSpPr/>
          <p:nvPr/>
        </p:nvSpPr>
        <p:spPr>
          <a:xfrm>
            <a:off x="0" y="6581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g </a:t>
            </a:r>
            <a:r>
              <a:rPr b="0" i="1" lang="pl-PL" sz="1200" spc="-1" strike="noStrike">
                <a:solidFill>
                  <a:srgbClr val="000000"/>
                </a:solidFill>
                <a:latin typeface="Lucida Sans Unicode"/>
              </a:rPr>
              <a:t>Nuovo Soggettario. Guida al sistema italiano di indicizzazione per soggetto. Prototipo del Thesaurus. </a:t>
            </a:r>
            <a:r>
              <a:rPr b="0" lang="pl-PL" sz="1200" spc="-1" strike="noStrike">
                <a:solidFill>
                  <a:srgbClr val="000000"/>
                </a:solidFill>
                <a:latin typeface="Lucida Sans Unicode"/>
              </a:rPr>
              <a:t>Milano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Symbol zastępczy numeru slajd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839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Symbol zastępczy numeru slajd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Symbol zastępczy numeru slajd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Symbol zastępczy numeru slajd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Symbol zastępczy numeru slajd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14200" y="128520"/>
            <a:ext cx="87156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Lucida Sans Unicode"/>
              </a:rPr>
              <a:t>Tworzenie HP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Symbol zastępczy numeru slajd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Lucida Sans Unicode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6"/>
          <p:cNvSpPr/>
          <p:nvPr/>
        </p:nvSpPr>
        <p:spPr>
          <a:xfrm>
            <a:off x="1512720" y="1714680"/>
            <a:ext cx="3630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temat doku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w języku natural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</a:rPr>
              <a:t>(enunciato del soggetto</a:t>
            </a:r>
            <a:r>
              <a:rPr b="0" lang="pl-PL" sz="18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11"/>
          <p:cNvSpPr/>
          <p:nvPr/>
        </p:nvSpPr>
        <p:spPr>
          <a:xfrm>
            <a:off x="5857920" y="1643040"/>
            <a:ext cx="30718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lacje logiczne pomiędzy leksemami języka natural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(relazioni logiche nell’enunciato di sogget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12"/>
          <p:cNvSpPr/>
          <p:nvPr/>
        </p:nvSpPr>
        <p:spPr>
          <a:xfrm>
            <a:off x="5214960" y="4786200"/>
            <a:ext cx="27147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orządek występowania w H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(ordine di citazi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15"/>
          <p:cNvSpPr/>
          <p:nvPr/>
        </p:nvSpPr>
        <p:spPr>
          <a:xfrm>
            <a:off x="1643040" y="5357880"/>
            <a:ext cx="2714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H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(stringa del sogget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załka w prawo 8"/>
          <p:cNvSpPr/>
          <p:nvPr/>
        </p:nvSpPr>
        <p:spPr>
          <a:xfrm>
            <a:off x="5286240" y="2214720"/>
            <a:ext cx="571680" cy="5000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załka w prawo 10"/>
          <p:cNvSpPr/>
          <p:nvPr/>
        </p:nvSpPr>
        <p:spPr>
          <a:xfrm rot="5400000">
            <a:off x="7178760" y="4607640"/>
            <a:ext cx="571680" cy="5000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załka w prawo 11"/>
          <p:cNvSpPr/>
          <p:nvPr/>
        </p:nvSpPr>
        <p:spPr>
          <a:xfrm rot="10800000">
            <a:off x="4392720" y="5393880"/>
            <a:ext cx="573120" cy="5000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3:25:10Z</dcterms:created>
  <dc:creator>LENOVO USER</dc:creator>
  <dc:description/>
  <dc:language>en-US</dc:language>
  <cp:lastModifiedBy>a.borowska</cp:lastModifiedBy>
  <dcterms:modified xsi:type="dcterms:W3CDTF">2009-05-27T09:08:28Z</dcterms:modified>
  <cp:revision>33</cp:revision>
  <dc:subject/>
  <dc:title>Slajd 1</dc:title>
</cp:coreProperties>
</file>